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F36-0845-4FE1-BFA1-D190722D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0FC-DB85-49D7-9713-0DD763DB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0DAF-2DC3-4CD5-9E37-78500E0A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3FC0-4838-416D-B7A8-A5593124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661-2203-43FF-A166-21DFB707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3AF-BC71-4E33-9370-0E26C82F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4A21-C346-418A-B15B-1FC74A9E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B0F-15A1-4A52-895D-09748491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6EC-02AD-47C1-B472-BFEFF4E1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600-0BA0-4A6B-A2FC-24AE7DEE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3B6-0E97-4DDA-8B08-71F714EC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B64-6803-48BD-8C3A-2325DD59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2E47-489D-46A4-8933-7D467B931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bels.uoregon.edu/measures/" TargetMode="External"/><Relationship Id="rId2" Type="http://schemas.openxmlformats.org/officeDocument/2006/relationships/hyperlink" Target="https://dibels.uoregon.edu/measures/" TargetMode="External"/><Relationship Id="rId3" Type="http://schemas.openxmlformats.org/officeDocument/2006/relationships/hyperlink" Target="https://dibels.uoregon.edu/measures/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BELS Manuals &amp;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553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on and Sc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Materials-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Monitoring Materials-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a DIBELS Account online at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bels.uoregon.edu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measur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0" descr="dibels download 1.gif"/>
          <p:cNvPicPr/>
          <p:nvPr/>
        </p:nvPicPr>
        <p:blipFill>
          <a:blip r:embed="rId4"/>
          <a:stretch/>
        </p:blipFill>
        <p:spPr>
          <a:xfrm>
            <a:off x="609480" y="1523880"/>
            <a:ext cx="8382240" cy="509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3244800">
            <a:off x="4114800" y="4114440"/>
            <a:ext cx="6062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-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857240"/>
            <a:ext cx="69339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41400"/>
            <a:ext cx="7620120" cy="6816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58000" y="35053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77320" cy="5029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606600" cy="838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load Man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Benchmark and Progress Monitoring Materials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 Revised (June 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924680" cy="4952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1384800">
            <a:off x="188640" y="5144760"/>
            <a:ext cx="838080" cy="606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048120" y="4648320"/>
            <a:ext cx="6062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ch Booklet Is a Separate File Which Can Be Sav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5184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16:41:37Z</dcterms:created>
  <dc:creator>office</dc:creator>
  <dc:description/>
  <dc:language>en-US</dc:language>
  <cp:lastModifiedBy>office</cp:lastModifiedBy>
  <dcterms:modified xsi:type="dcterms:W3CDTF">2010-08-13T16:58:22Z</dcterms:modified>
  <cp:revision>2</cp:revision>
  <dc:subject/>
  <dc:title>Slide 1</dc:title>
</cp:coreProperties>
</file>